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51B-CE47-4A85-8C00-448863CB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3A3-6CF1-4170-BCD7-B4D29673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06A-1BF9-4C4D-99DE-FF1A82BC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8B3-B89D-4232-9A6B-F9ABC700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0BD9-93B4-420C-AFE4-1085F037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0BE-856C-4D50-8FD7-B47B26E6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48C1-0FE5-4F94-98B3-CA54A94B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2785-EB92-464F-BC68-A683665E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C5AF-6401-4B31-AC76-A567BB3C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1786-C026-4177-903F-4A9BCD76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6621-29EF-470F-877D-EFACC215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C53-A7AF-4DB1-AAE4-1521F04E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CEAE-93A8-4C34-9787-DFEC2DC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4AEA-8404-49E7-821D-1946DD54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8241-5720-4326-97F8-BD53EDA8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F2BA-60A9-4A77-BD8D-7608FE75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836D-CEFE-4FA6-91A1-B95D2C9F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774-B4ED-47ED-870B-BCA886A2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642-F376-472D-9E89-CD32FF51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E20-C8C7-490F-94CF-06CA80D3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209-75A7-4E6D-B501-A55420E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ACB-1F4B-4143-AD09-B65F0C4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A33-B563-4CAA-8A84-01B1864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7B6-59F3-4554-99DB-8F8B0FE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D12BC8-E64A-4573-958E-0A5DCE54A74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C46AB5-37E6-4EEA-89D2-62B883D47B1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521964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О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0" y="2853000"/>
            <a:ext cx="55076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 cap="all">
                <a:solidFill>
                  <a:schemeClr val="accent4"/>
                </a:solidFill>
                <a:latin typeface="Calibri"/>
              </a:rPr>
              <a:t>«ЮНОСТЬ И НАДЕЖДЫ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g12.proshkolu.ru/content/media/pic/std/5000000/4082000/4081061-741f0e362440d869.jpg"/>
          <p:cNvPicPr/>
          <p:nvPr/>
        </p:nvPicPr>
        <p:blipFill>
          <a:blip r:embed="rId1"/>
          <a:stretch/>
        </p:blipFill>
        <p:spPr>
          <a:xfrm>
            <a:off x="5220000" y="476640"/>
            <a:ext cx="3803400" cy="58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0640"/>
            <a:ext cx="4258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Этюд головы девочки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. Рубенс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3610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пишите. Что вы видите на этом портрете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31880" y="0"/>
            <a:ext cx="481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ика Морозов» В. Сер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71640" y="908640"/>
            <a:ext cx="682236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идумай и нарисуй образ радости детства и светлой юност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ность и надеж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и всех народов стремятся к счастью и верят, что в будущем жизнь будет лучш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не может жить без мечты. А мечты и надежды связывают с юность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скусстве всех народов есть светлая тема радости жизни, красоты молодости, тема счасть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26744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енины»-Веласке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56640"/>
            <a:ext cx="313164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групповой портрет, на нем изображена королевская семья(король Филип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его жена) и придворные королевы и инфанты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осторном зале королевского дворца стоит тишина. По придворному этикету, пока король безмолвствует, никто не имеет права говорить. Вдруг распахивается дверь, и в нее вбегает маленькая светловолосая девочка в неудобном темном платье. Придворные дамы и кормилица стараются удержать ее от неуместного проявления резвости и нарушения этикета, но инфанта (принцесса) не слушается, ей хочется бегать и резвиться. Увидев отца и мать, она внезапно останавливается, а менина, почтительно склонившись, подносит бокал воды, чтобы успокоить ее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Какие детские черты раскрыл художник в картине «Менины»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211920" y="0"/>
            <a:ext cx="59317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466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Какие детские черты раскрыл художник в картине «Менин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осредственнос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лос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орств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ость детств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636000" y="1484640"/>
            <a:ext cx="521820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60116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инаида Серебрякова «Портрет дочер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48.radikal.ru/i122/1005/f0/a4db097f8e40.jpg"/>
          <p:cNvPicPr/>
          <p:nvPr/>
        </p:nvPicPr>
        <p:blipFill>
          <a:blip r:embed="rId1"/>
          <a:stretch/>
        </p:blipFill>
        <p:spPr>
          <a:xfrm>
            <a:off x="4572000" y="692640"/>
            <a:ext cx="4469400" cy="616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vadiman79.users.photofile.ru/photo/vadiman79/115640170/xlarge/134581427.jpg"/>
          <p:cNvPicPr/>
          <p:nvPr/>
        </p:nvPicPr>
        <p:blipFill>
          <a:blip r:embed="rId2"/>
          <a:stretch/>
        </p:blipFill>
        <p:spPr>
          <a:xfrm>
            <a:off x="323640" y="744480"/>
            <a:ext cx="4080600" cy="61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94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старика с внуком»- ит. Художни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 Гирландайо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440" cy="514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сравнивает два возраста. С какой любовью и теплом  смотрят друг на друга дедушка и его маленький внучек, жившие 500 лет назад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ли уж отличаются  они от современных дедушек и их любимых внуков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хотел рассказать зрителю художник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нание, опыт даются людям путем жертв и горя. Только в начале жизни, в детстве существует радостный взгляд на жизнь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140000" y="0"/>
            <a:ext cx="500364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4104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мальчика Челищева(1809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.А. Кипренск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8264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внимание художник сосредоточил  на передаче выражения лица. Его привлекательное умное лицо чуть повернуто вправо, большие темные глаза широко открыты и внимательно, пытливо смотрят на зрителя, на мир. Это сверстник Пушкина и декабристов, старший брат Лермонтов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 чем он думает и мечтает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акие черты детского характера изобразил художник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дежда на светлое будущее, мечты о подвигах, путешествиях, открытиях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35800" y="0"/>
            <a:ext cx="53078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9624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евочка с персиками»(1887) В. Сер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302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нтре картины художник поместил девочку-подростка Верушу Мамонтову. Весь облик ее говорит о живости характера, темпераменте. Девочка сидит за столом светло-розовой блузе. Перед ней на светлой скатерти персики и осенние листья. Комната озарена осеним светом, идущие через большие окна. Девочка как будто присела на минуту и тотчас умчится, едва художник закончит ее рисовать. Сразу видно, что долго сидеть ей труднее, чем бегать, прыгать целый день!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ем она похожа на вас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акие впечатления у вас от этой картины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то вы можете сказать о детстве этой девочки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48080" y="404640"/>
            <a:ext cx="5695560" cy="61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2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сына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Тропинин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8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ртине приковывают  внимание глаза мальчика. Он пытливо смотрит в наш мир, ищет ответы на свои вопрос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то вы можете сказать о таких средствах выразительности, как цвет и свет, в этой картине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58840" y="0"/>
            <a:ext cx="5284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  <Words>555</Words>
  <Paragraphs>41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0:20:47Z</dcterms:created>
  <dc:creator>User</dc:creator>
  <dc:description/>
  <dc:language>en-US</dc:language>
  <cp:lastModifiedBy>Юлия</cp:lastModifiedBy>
  <dcterms:modified xsi:type="dcterms:W3CDTF">2014-05-11T10:50:26Z</dcterms:modified>
  <cp:revision>18</cp:revision>
  <dc:subject/>
  <dc:title>Тема: «Юность и надежд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